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png" ContentType="image/png"/>
  <Override PartName="/ppt/media/projctor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9946-E6C2-45D4-A4E3-6D4E2C2844C5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9490-8D47-4473-95CA-BD9CFB39E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B8E4-DD1D-4E58-8D56-C15428FAFDCA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E8A8-23A8-4D8A-BB56-3961873ECECD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B859-0AEB-4396-B933-11DB6801B3FB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C06F-885E-441B-8521-6BCA73EF3F5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82B5-80F2-4D1D-A5D5-1D333093D131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A7D3-FDFC-4DFD-8DD3-6D54418122D2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5CBC-DC47-499B-9D38-DAAC7B8F69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1C12-6E8E-45B9-B6DF-6E56F6BA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07C3-E297-4B90-92DC-373808D6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F825-3BB7-419C-8912-806DA85CFA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3CAA-76AD-4D94-9190-4BAB6EA2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3968-E211-4D36-B0E9-A9D3E652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0BB7-C6CD-4E8C-9FC9-BA70E98D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AF38-A25B-4746-BA2A-8F71FC8C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B704-F93D-41BD-A83D-EF3EA8ED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E5F6-B5C5-4171-8A59-222DBFDD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9B4E-A705-4E5F-8DBB-B394AB86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DB54-A003-48E1-BD74-8E60A077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BA63-9D25-4175-AFF3-AD7B3CDB99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3.xml"/><Relationship Id="rId5" Type="http://schemas.openxmlformats.org/officeDocument/2006/relationships/slide" Target="slide104.xml"/><Relationship Id="rId6" Type="http://schemas.openxmlformats.org/officeDocument/2006/relationships/slide" Target="slide104.xml"/><Relationship Id="rId7" Type="http://schemas.openxmlformats.org/officeDocument/2006/relationships/slide" Target="slide104.xml"/><Relationship Id="rId8" Type="http://schemas.openxmlformats.org/officeDocument/2006/relationships/slide" Target="slide105.xml"/><Relationship Id="rId9" Type="http://schemas.openxmlformats.org/officeDocument/2006/relationships/slide" Target="slide105.xml"/><Relationship Id="rId10" Type="http://schemas.openxmlformats.org/officeDocument/2006/relationships/slide" Target="slide105.xml"/><Relationship Id="rId11" Type="http://schemas.openxmlformats.org/officeDocument/2006/relationships/slide" Target="slide102.xml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" Target="slide39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5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2.xml"/><Relationship Id="rId5" Type="http://schemas.openxmlformats.org/officeDocument/2006/relationships/slide" Target="slide43.xml"/><Relationship Id="rId6" Type="http://schemas.openxmlformats.org/officeDocument/2006/relationships/slide" Target="slide35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" Target="slide124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5.xml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" Target="slide53.xml"/><Relationship Id="rId6" Type="http://schemas.openxmlformats.org/officeDocument/2006/relationships/slide" Target="slide6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E:/&#36164;&#26009;/&#35838;&#20214;/&#26032;&#24314;%20Microsoft%20PowerPoint%20&#28436;&#31034;&#25991;&#31295;.ppt" TargetMode="External"/><Relationship Id="rId3" Type="http://schemas.openxmlformats.org/officeDocument/2006/relationships/slide" Target="slide47.xml"/><Relationship Id="rId4" Type="http://schemas.openxmlformats.org/officeDocument/2006/relationships/hyperlink" Target="file:///E:/&#36164;&#26009;/&#35838;&#20214;/&#26032;&#24314;%20Microsoft%20PowerPoint%20&#28436;&#31034;&#25991;&#31295;.ppt" TargetMode="External"/><Relationship Id="rId5" Type="http://schemas.openxmlformats.org/officeDocument/2006/relationships/slide" Target="slide63.xml"/><Relationship Id="rId6" Type="http://schemas.openxmlformats.org/officeDocument/2006/relationships/hyperlink" Target="file:///E:/&#36164;&#26009;/&#35838;&#20214;/&#26032;&#24314;%20Microsoft%20PowerPoint%20&#28436;&#31034;&#25991;&#31295;.ppt" TargetMode="External"/><Relationship Id="rId7" Type="http://schemas.openxmlformats.org/officeDocument/2006/relationships/slide" Target="slide114.xml"/><Relationship Id="rId8" Type="http://schemas.openxmlformats.org/officeDocument/2006/relationships/hyperlink" Target="file:///E:/&#36164;&#26009;/&#35838;&#20214;/&#26032;&#24314;%20Microsoft%20PowerPoint%20&#28436;&#31034;&#25991;&#31295;.ppt" TargetMode="External"/><Relationship Id="rId9" Type="http://schemas.openxmlformats.org/officeDocument/2006/relationships/slide" Target="slide120.xml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4.xml"/><Relationship Id="rId3" Type="http://schemas.openxmlformats.org/officeDocument/2006/relationships/slide" Target="slide55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5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4.xml"/><Relationship Id="rId3" Type="http://schemas.openxmlformats.org/officeDocument/2006/relationships/slide" Target="slide82.xml"/><Relationship Id="rId4" Type="http://schemas.openxmlformats.org/officeDocument/2006/relationships/slide" Target="slide86.xml"/><Relationship Id="rId5" Type="http://schemas.openxmlformats.org/officeDocument/2006/relationships/slide" Target="slide95.xml"/><Relationship Id="rId6" Type="http://schemas.openxmlformats.org/officeDocument/2006/relationships/slide" Target="slide98.xml"/><Relationship Id="rId7" Type="http://schemas.openxmlformats.org/officeDocument/2006/relationships/slide" Target="slide110.xml"/><Relationship Id="rId8" Type="http://schemas.openxmlformats.org/officeDocument/2006/relationships/slide" Target="slide113.xml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5.xml"/><Relationship Id="rId3" Type="http://schemas.openxmlformats.org/officeDocument/2006/relationships/slide" Target="slide71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" Target="slide66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9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75.xml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8.xml"/><Relationship Id="rId8" Type="http://schemas.openxmlformats.org/officeDocument/2006/relationships/slide" Target="slide79.xml"/><Relationship Id="rId9" Type="http://schemas.openxmlformats.org/officeDocument/2006/relationships/slide" Target="slide79.xml"/><Relationship Id="rId10" Type="http://schemas.openxmlformats.org/officeDocument/2006/relationships/slide" Target="slide80.xml"/><Relationship Id="rId11" Type="http://schemas.openxmlformats.org/officeDocument/2006/relationships/slide" Target="slide81.xml"/><Relationship Id="rId12" Type="http://schemas.openxmlformats.org/officeDocument/2006/relationships/slide" Target="slide81.xml"/><Relationship Id="rId1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7.xml"/><Relationship Id="rId3" Type="http://schemas.openxmlformats.org/officeDocument/2006/relationships/slide" Target="slide88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0.xml"/><Relationship Id="rId3" Type="http://schemas.openxmlformats.org/officeDocument/2006/relationships/slide" Target="slide89.xml"/><Relationship Id="rId4" Type="http://schemas.openxmlformats.org/officeDocument/2006/relationships/slide" Target="slide91.xml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slide" Target="slide94.xml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6.xml"/><Relationship Id="rId3" Type="http://schemas.openxmlformats.org/officeDocument/2006/relationships/slide" Target="slide97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9.xml"/><Relationship Id="rId3" Type="http://schemas.openxmlformats.org/officeDocument/2006/relationships/slide" Target="slide101.xml"/><Relationship Id="rId4" Type="http://schemas.openxmlformats.org/officeDocument/2006/relationships/slide" Target="slide106.xml"/><Relationship Id="rId5" Type="http://schemas.openxmlformats.org/officeDocument/2006/relationships/slide" Target="slide100.xml"/><Relationship Id="rId6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第七节   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腹部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249B-10A0-46EE-968C-E94A4CE4548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上角（胸骨下角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640" y="2421000"/>
            <a:ext cx="665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两侧肋弓的夹角，剑突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于判断体形及肝脾的测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0A91-DF10-419E-AB4B-21945FD8B95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及伴随症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：脾脓肿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及摩擦感：脾周围炎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光滑：慢性疟疾、黑热病、慢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凹凸不平：脾肿瘤、结核、淋巴肉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6BC5-3BF5-47D0-ABA6-7CEF553E76F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的测量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甲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甲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2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丁戊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9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表示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0C99-3675-4C2A-B4D3-7D7111C9BEC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示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数表示： 如脾大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测右缘到正中线的最大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+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负数表示：未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则测脾右缘到正中线的最短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-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6092-7F8C-4A30-B7DA-EEB47AB91F6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1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缘至脾下缘间的距离（厘米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时适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只测此线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1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9672-6F29-45BE-A7FA-8C367BFEC9E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2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点到最远脾尖之间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6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E536-5533-4C45-93B3-B6D6762CC0C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丁戊线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右缘到正中线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1" name="Picture 6" descr="未命名"/>
          <p:cNvPicPr/>
          <p:nvPr/>
        </p:nvPicPr>
        <p:blipFill>
          <a:blip r:embed="rId2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0C3C-DD2C-412F-AB13-7270E4EFA80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脾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59280" y="1773000"/>
            <a:ext cx="427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轻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高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C523-C3D1-4FE5-8214-063132773D1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轻度肿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0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深吸气时，脾在肋缘下不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急慢性肝炎、伤寒、感染性心内膜炎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F0E8-E8FF-4B9F-A6E4-892653D7F3D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中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至脐水平线以上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肝硬化、慢性淋巴性白血病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85CE-4559-4768-9CFE-F15EBD2B31D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高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脐水平线或前正中线，即巨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慢性淋巴性白血病、淋巴瘤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4C2B-0C5D-4798-B23B-F708DD89BE6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中线（腹白线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前正中线的延续，为腹部四区分法的垂直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07D2-F214-4FAF-B25E-303E262E9F3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肾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一般用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病变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AA5A-7A9C-4C87-A1A4-DA675A75270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常见病变压痛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脊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与脊柱形成的夹角顶点，又称肋脊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腰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骨和腰肌外缘形成的夹角顶点，又称肋腰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上输尿管点：位于腹直肌外缘平脐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输尿管点：位于两髂前上棘连线与通过耻骨结节所做垂直                         线的交点上，相当于输尿管进入骨盆腔之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476B-A9F5-47BE-9A5F-EC3E4BA1397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脊点、肋腰点出现压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肾盂肾炎、肾脓肿、肾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上输尿管和中输尿管点出现压痛 ：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结石或化脓性炎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0012-EB3F-4329-991F-805DEE2C000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膀胱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方法：单手滑行触诊法：以左手自脐水平向耻骨方向触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内有尿液充盈时胀大，触之有囊性感，不易推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手压时有尿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：仅在耻骨联合之上触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度肿大：可在耻骨上方触及横置的椭圆形的膀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明显肿大：下腹部高度膨隆，膀胱呈球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胀大常见于尿路梗阻、昏迷、 腰麻后等原因所致的尿潴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85AA-D581-472F-8615-F232023008D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530520" y="304560"/>
            <a:ext cx="538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叩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68360" y="1699920"/>
            <a:ext cx="4818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叩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浊音上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6145-994A-43C4-BF0D-88A9E162983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腹部叩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腹部叩诊音呈鼓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音响程度与胃肠道充气量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F234-D3F6-4E7B-AF12-7A63B3367F0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移动性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叩诊时叩诊音变浊，且可随体位改变而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当腹腔内游离腹水量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以上时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移动性浊音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液波震颤常需有大量腹水时才可测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水量少时，取膝肘位叩诊，脐处叩诊呈浊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WordArt 5"/>
          <p:cNvSpPr txBox="1"/>
          <p:nvPr/>
        </p:nvSpPr>
        <p:spPr>
          <a:xfrm>
            <a:off x="5003640" y="5589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误认为腹水的情况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6393-608B-460F-BCD2-C994AABC4CC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误认为腹水的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9448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肠管内有大量液体潴留时，可因患者体位改变产生移动性浊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巨大的卵巢囊肿可误认为腹水。与腹水的鉴别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不同于腹水，仰卧时卵巢囊肿的浊音在腹中部，鼓音区在腹部两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的浊音无移动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887480" cy="2374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687680" cy="23763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6"/>
          <p:cNvSpPr/>
          <p:nvPr/>
        </p:nvSpPr>
        <p:spPr>
          <a:xfrm>
            <a:off x="4654440" y="607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腹水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7326360" y="607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卵巢囊肿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3104-78EC-442A-9120-59AF6E01080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肝浊音上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右锁骨中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肺气肿：可使肝下界下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严重腹水、肝大  ：使肝上界上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胃肠穿孔（气体逸出，进入腹腔）：肝浊音可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31C8-56F9-4344-9A0B-51879174B7A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叩击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手平放在被检脏器的体表位置上，右手握拳叩击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手背。如患者感到疼痛，称叩击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各脏器无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B1DF-A7CF-48C2-81E5-6EF22F274C7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69231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中心，位于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腰椎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四区分法、阑尾压痛点及腰椎穿刺的定位标志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4583-877A-45C9-BC99-13E777593FA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7640" y="33336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听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348000" y="2276280"/>
            <a:ext cx="395928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振水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5F4C-BE63-4358-9409-BEEFAE9D235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肠鸣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蠕动产生的声音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（脐部明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亢进：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，见于急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减弱或消失：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钟以上才听到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或听不到肠鸣音。见于肠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56DE-2E3F-440B-829F-76D867AE0D6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振水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6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四指连续迅速地冲击患者上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仅在饭后多饮时出现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、胃扩张：空腹或饭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~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以上，胃部仍有振水音，则提示胃排空不良。见于幽门梗阻、胃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CFE4-015B-4699-AF74-8F54E303ACA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小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检查是体格检查的重要组成部分；腹部检查内容多、复杂；主要包括视、触、叩、听检查，期中触诊是腹部主要的检查方法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视诊：腹部外形、呼吸运动、腹壁静脉曲、胃肠型和蠕动波。在腹部视诊的检查过程中，要仔细对腹部表面的脏器轮廓、包块、蠕动波进行观察，结合其他检查方法对腹部检查做出正确的、有意义的评估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听诊：肠鸣音、振水音、血管杂音。为了避免触诊引起胃肠蠕动增加，使肠鸣音发生变化，腹部检查的顺序为视、听、触、叩，但记录时为了统一格式仍按视、触、叩、听的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叩诊：脏器叩诊、移动性浊音、叩痛。正确掌握叩诊某些腹腔脏器边界位置及有无叩痛，腹腔内积气积液情况，进一步验证视诊与触诊的结果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触诊：腹壁紧张度、压痛和反跳痛、脏器触诊。触诊是腹部检查中最重要的一步，必须掌握各种触诊的正确手法和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评估可以帮助我们了解腹部脏器的一些病变情况，掌握腹部评估中的一些异常和正常情况，可以帮助护士在护理患者时及时发现问题及时上报，对于腹部评估的方法必须反复练习才能掌握。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D3B8-D55A-48B8-9D32-95F8A6EC3C3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习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916360" y="1413000"/>
            <a:ext cx="369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案例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963F-8368-4A5D-B71E-A31DA4C6CBD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选择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胆囊炎时，下列哪项为阳性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Murphy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Courvoisi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Oliv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Grey-Turnet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Cullen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腹部触及包块时，包块与周围组织粘连，不易推动，压痛明显者，应考虑（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良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恶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囊肿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炎性肿块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游离脏器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女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小时前无诱因突然上腹刀割样疼痛，不敢直腰，腹肌紧张压痛、反跳痛明显，肝浊音界消失，应首先考虑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阑尾炎穿孔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宫外孕破裂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消化性溃疡急性穿孔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绞窄性肠梗阻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出血坏死性胰腺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男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主诉腹痛，腹部肠鸣音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分，且音调高呈金属音，最大可能为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肠炎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胃扩张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幽门梗阻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机械性肠梗阻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腹膜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ADAF-84DA-449B-BF36-F9027C87FCE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膜刺激征指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梗阻时，在腹壁上可看到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蠕动波和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E69B-DA78-497A-9EEC-07F41FDF315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名词解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1557-213A-41F2-959F-911AAFBD8CA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简答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46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何为肠鸣音亢进？何为肠鸣音减弱或消失？其临床意义如何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触诊时如触及肿块，应注意描述肿块的哪些内容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巨大卵巢囊肿与腹水如何鉴别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1938-878E-40A8-9DB2-E2A168AA354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患者女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有乙肝病史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，近来感腹胀而就诊。查体：面部见蜘蛛痣，腹肌柔软，移动性浊音阳性。请回答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根据该病人病史及临床表现，你考虑此病人目前的医学诊断是什么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该病人治疗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个月复查，查体移动性浊音消失，提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后复查，查体出现液波震颤提示病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一患者起病急，上腹部痛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后转右下腹痛伴恶心呕吐，体温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7.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℃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。查体：位于脐与右髂前上棘中外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交界处出现明显固定的压痛和反跳痛，局部腹壁紧张。请问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你首先考虑该患者发生了什么情况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?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其诊断依据是什么？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009E-E499-4CA8-A248-8A560BDBB13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髂前上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髂棘前方的突出点，为腹部九区分法、阑尾压痛点的定位标志及骨髓穿刺的部位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0F85-F542-404D-81D8-C8819C33549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直肌外缘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2" action="ppaction://hlinksldjump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5324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抬头抬肩时可明显辨认，相当于锁骨中线的延续，右侧腹直肌外缘与肋弓下缘的交界处为胆囊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为手术切口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E854-BE36-46BE-B318-5017A7F457C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股沟韧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77724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腹部体表的下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寻找股动、静脉和腹股沟疝通过部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5E69-87A6-43AA-AE32-070462E1673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脊角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背部两侧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骨与脊柱的交角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为检查肾叩痛的位置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C484-023C-49F7-949B-BC57A9A808C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610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为腹中线最下部的骨性标志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8559-1D13-4C17-8913-7C77AB7D6F0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6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8" descr="腹部前面体表标志图"/>
          <p:cNvPicPr/>
          <p:nvPr/>
        </p:nvPicPr>
        <p:blipFill>
          <a:blip r:embed="rId2"/>
          <a:stretch/>
        </p:blipFill>
        <p:spPr>
          <a:xfrm>
            <a:off x="1187280" y="1376280"/>
            <a:ext cx="75009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1DDF-3D13-4E80-9106-40788627707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64D9-226D-4C07-95E0-2F653EA58DA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864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分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16360" y="220464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四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九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黑体"/>
                <a:hlinkClick r:id="rId4" action="ppaction://hlinksldjump"/>
              </a:rPr>
              <a:t>七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22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22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979640" y="3068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1763640" y="3789360"/>
            <a:ext cx="679680" cy="665280"/>
          </a:xfrm>
          <a:prstGeom prst="hexagon">
            <a:avLst>
              <a:gd name="adj" fmla="val 2554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5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FD47-85D6-47C9-9C96-344E8F661F4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971720" y="393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8C49-D593-4472-B27A-6D2DD6081A1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熟记腹壁静脉曲张的概念、移动性浊音的概念、腹膜刺激征的概念、压痛与反跳痛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描述肠鸣音活跃、亢进、减弱和消失的判断标准、腹部触诊的注意事项、常见腹部压痛点及位置、脾大的分度、腹部的体表标志及分区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知道腹部各区与腹腔脏器的对应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归纳腹部视诊、触诊的异常体征及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本节所学知识能正确对腹部进行视、触、叩、听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D64B-0208-4C01-833C-E7128B1B06F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1" name="Picture 8" descr="复件 腹部体表分区示意图图(七分法)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2DC5-01C4-4F18-92EA-8EB0BEBEE70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5" descr="复件 腹部体表分区示意图图(九区分法)"/>
          <p:cNvPicPr/>
          <p:nvPr/>
        </p:nvPicPr>
        <p:blipFill>
          <a:blip r:embed="rId2"/>
          <a:stretch/>
        </p:blipFill>
        <p:spPr>
          <a:xfrm>
            <a:off x="1692360" y="1268280"/>
            <a:ext cx="6913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3AA3-0832-40F4-B45B-881E8F3BA4A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29" descr="腹部体表分区示意图图(四分法)"/>
          <p:cNvPicPr/>
          <p:nvPr/>
        </p:nvPicPr>
        <p:blipFill>
          <a:blip r:embed="rId2"/>
          <a:stretch/>
        </p:blipFill>
        <p:spPr>
          <a:xfrm>
            <a:off x="900000" y="1413000"/>
            <a:ext cx="78566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DF61-15C1-4B37-9EEF-FB9AE12D059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过脐划一水平线与一垂直线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两线相交将腹部分为四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右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右下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左下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77080" y="263700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9C2E-E30F-4566-9FC0-4B35D8595B8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2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                              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                           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                              右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                        结肠肝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升结肠及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DD5F-E8D0-459F-8CD9-FD48D0A1A5F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                  部分小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横结肠和降结肠          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                  胰体及胰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      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脾曲及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9C09-8578-4A4B-AEA0-010BDAEDE7A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                                部分升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侧输尿管                       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89AE-A57C-4DF4-8944-81CDA9BFC7D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部分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                          充盈的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输尿管   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        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1BD2-C809-422D-BB38-E86C46B1F88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两条水平线和两条垂直线将腹部分为井字形的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面的水平线为两侧肋弓下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面的水平线为两侧髂前上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通过左右髂前上棘至腹中线连线的中点划两条垂直线，将腹部分为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各区的主要脏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6804000" y="2133720"/>
            <a:ext cx="1655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796B-F3F9-448C-9CF4-66D63045C31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各区的主要脏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340000" y="1196640"/>
            <a:ext cx="534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318280" y="1916280"/>
            <a:ext cx="54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95388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2" action="ppaction://hlinksldjump"/>
              </a:rPr>
              <a:t>左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57752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3" action="ppaction://hlinksldjump"/>
              </a:rPr>
              <a:t>左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6330240" y="22050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4" action="ppaction://hlinksldjump"/>
              </a:rPr>
              <a:t>左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7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5" action="ppaction://hlinksldjump"/>
              </a:rPr>
              <a:t>右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95388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右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625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右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66104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964320" y="436572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中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626940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10" action="ppaction://hlinksldjump"/>
              </a:rPr>
              <a:t>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6BD3-E5DC-40D0-98EB-FEAB6126DB4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患者男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前常因过劳、气候变化及饮食不洁而反复发作上腹部隐痛，疼痛多于餐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~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发生，伴反酸、嗳气，进餐后缓解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前大量饮酒后突感上腹部剧烈疼痛，恶心，呕吐血性胃内容物两次，约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0 ml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急诊入院。查体：患者烦躁不安，皮肤湿冷、意识模糊，呼吸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0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／分，尿少，血压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80/60mmH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脉搏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分，腹软，上腹偏右压痛，无反跳痛，无腹壁紧张，肠鸣音活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请思考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本患者可能发生什么情况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判断患者目前的出血量大约是多少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护士对该患者应该如何进行护理评估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2DC5-4E1B-4624-A402-8B91B10DDB6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563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结肠脾曲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胰尾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5FC6-B88B-4BC4-B8ED-914834AE729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131640" y="1557000"/>
            <a:ext cx="485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空肠或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下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F573-DE7C-49B0-A8D3-7F6E611D836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56000" y="1413000"/>
            <a:ext cx="541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FC34-544E-453B-BE52-8755B8C2FD0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527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肝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CE6F-1B9D-4043-9DD8-DCE3BEA76E4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64000" y="1980720"/>
            <a:ext cx="505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升结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右肾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04CD-933E-4FDF-A73B-891E0DDCAD6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76360" y="1196640"/>
            <a:ext cx="455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84ED-A7B5-4EB3-83C5-8F62333A9C3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43280" y="1196640"/>
            <a:ext cx="60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下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860F-B29E-47AB-9681-BDF5B3BC6CC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16000" y="1267920"/>
            <a:ext cx="505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网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与胰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2456-89AB-4FCF-9FBC-01A2684A347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中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87280" y="134100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十二指肠下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下垂的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系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主动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大网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67B9-5D93-4103-85BF-7BF689F29BB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41360"/>
            <a:ext cx="8305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在九区法的基础上，将两侧腹部的三区改为通过脐的水平线分成上下两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左上腹部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下腹部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腹部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脐部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下腹部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右上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右下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5364000" y="37162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B12E-0C07-4382-84FF-3B98B5EB407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819440" y="1787400"/>
            <a:ext cx="688320" cy="594000"/>
            <a:chOff x="1819440" y="1787400"/>
            <a:chExt cx="688320" cy="594000"/>
          </a:xfrm>
        </p:grpSpPr>
        <p:sp>
          <p:nvSpPr>
            <p:cNvPr id="124" name="AutoShape 5"/>
            <p:cNvSpPr/>
            <p:nvPr/>
          </p:nvSpPr>
          <p:spPr>
            <a:xfrm>
              <a:off x="182484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181944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185940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27" name="Text Box 8"/>
          <p:cNvSpPr/>
          <p:nvPr/>
        </p:nvSpPr>
        <p:spPr>
          <a:xfrm>
            <a:off x="199152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1819440" y="25495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979640" y="2637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35280" y="4653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5600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987640" y="407664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835280" y="3429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79640" y="3500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0" lang="en-US" sz="4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835280" y="422100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979640" y="4292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2741760" y="4168800"/>
            <a:ext cx="197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课后习题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91636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2627280" y="2565360"/>
            <a:ext cx="410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腹部的体表标志与分区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2543040" y="3376440"/>
            <a:ext cx="3829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腹部评估方法及内容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00360" y="1787400"/>
            <a:ext cx="688320" cy="594000"/>
            <a:chOff x="1800360" y="1787400"/>
            <a:chExt cx="688320" cy="594000"/>
          </a:xfrm>
        </p:grpSpPr>
        <p:sp>
          <p:nvSpPr>
            <p:cNvPr id="146" name="AutoShape 5"/>
            <p:cNvSpPr/>
            <p:nvPr/>
          </p:nvSpPr>
          <p:spPr>
            <a:xfrm>
              <a:off x="180576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180036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84032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197244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253692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289728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13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2" name="WordArt 46"/>
          <p:cNvSpPr txBox="1"/>
          <p:nvPr/>
        </p:nvSpPr>
        <p:spPr>
          <a:xfrm>
            <a:off x="5076720" y="5229360"/>
            <a:ext cx="19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后小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A910-937C-44E2-A7D2-0F7C64F8038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56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脾、胃、左肾、左肾上腺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尾、结肠脾曲、降结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5650-EA70-4E09-BB89-584FF519C1D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39880" y="2650680"/>
            <a:ext cx="7175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降结肠、乙状结肠、左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左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左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CC1F-276D-4C25-A8C9-CD2A945820E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80720" y="26665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胃、肝左叶、十二指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头和胰体、横结肠、腹主动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6F90-FC0E-461E-94C4-91F0EE59D6E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十二指肠下部、空肠及回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垂的胃或横结肠、腹主动脉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肠系膜及其淋巴结、大网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2440-FDE3-4402-94F4-DD42EDE00BE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肠、乙状结肠及直肠、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胀大的膀胱和增大的子宫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A7C4-AA22-454F-ADEA-91C9BFAA6CA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5867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肝右叶、胆囊、右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肾上腺、结肠肝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F308-E0D3-40E2-9328-4B510323D02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77560" y="2330280"/>
            <a:ext cx="658332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盲部、阑尾、右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右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右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3C6F-3BF2-4841-9D76-3BB6948008C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视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Verdana"/>
              </a:rPr>
              <a:t> 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cc"/>
                </a:solidFill>
                <a:latin typeface="Verdana"/>
              </a:rPr>
              <a:t>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3" name="Picture 4" descr="太阳花"/>
          <p:cNvPicPr/>
          <p:nvPr/>
        </p:nvPicPr>
        <p:blipFill>
          <a:blip r:embed="rId4"/>
          <a:stretch/>
        </p:blipFill>
        <p:spPr>
          <a:xfrm>
            <a:off x="5867280" y="205740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wbw02slg"/>
          <p:cNvPicPr/>
          <p:nvPr/>
        </p:nvPicPr>
        <p:blipFill>
          <a:blip r:embed="rId5"/>
          <a:stretch/>
        </p:blipFill>
        <p:spPr>
          <a:xfrm>
            <a:off x="2268360" y="4292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wbw02slg"/>
          <p:cNvPicPr/>
          <p:nvPr/>
        </p:nvPicPr>
        <p:blipFill>
          <a:blip r:embed="rId6"/>
          <a:stretch/>
        </p:blipFill>
        <p:spPr>
          <a:xfrm>
            <a:off x="2340000" y="2565360"/>
            <a:ext cx="2858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B2C6-8ABC-4E11-A6CB-B05A273EF2C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0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人腹部外形对称，一般描述为平坦、凹陷、膨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发育营养良好的青壮年前腹壁与肋缘至耻骨大致位于同一水平面，称为腹部平坦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小儿及肥胖者前腹壁可高于肋缘至耻骨的平面，脐部多呈凹陷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前腹壁稍低于肋缘至耻骨的平面称为腹部低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明显膨隆或凹陷具有病理意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7782-5E11-411A-B5FD-4AA5165AC56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124080" y="18284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部膨隆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凹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式呼吸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腹壁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胃肠蠕动波及肠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E698-3D7A-45F5-9C85-4ECD41BA4CC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评估方法及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前，应嘱被评估者排空小便，被评估者取仰卧位，置一小枕于头下，两手自然放于躯干两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估者可与被评估者进行简单的交谈以帮助被评估者放松腹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方法仍然采用视诊、触诊、叩诊及听诊等基本方法。其中以触诊最为重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AutoShape 3">
            <a:hlinkClick r:id="rId2"/>
          </p:cNvPr>
          <p:cNvSpPr/>
          <p:nvPr/>
        </p:nvSpPr>
        <p:spPr>
          <a:xfrm>
            <a:off x="75564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3" action="ppaction://hlinksldjump"/>
              </a:rPr>
              <a:t>视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8" name="AutoShape 3">
            <a:hlinkClick r:id="rId4"/>
          </p:cNvPr>
          <p:cNvSpPr/>
          <p:nvPr/>
        </p:nvSpPr>
        <p:spPr>
          <a:xfrm>
            <a:off x="2700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5" action="ppaction://hlinksldjump"/>
              </a:rPr>
              <a:t>触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AutoShape 3">
            <a:hlinkClick r:id="rId6"/>
          </p:cNvPr>
          <p:cNvSpPr/>
          <p:nvPr/>
        </p:nvSpPr>
        <p:spPr>
          <a:xfrm>
            <a:off x="4716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7" action="ppaction://hlinksldjump"/>
              </a:rPr>
              <a:t>叩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0" name="AutoShape 3">
            <a:hlinkClick r:id="rId8"/>
          </p:cNvPr>
          <p:cNvSpPr/>
          <p:nvPr/>
        </p:nvSpPr>
        <p:spPr>
          <a:xfrm>
            <a:off x="673272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9" action="ppaction://hlinksldjump"/>
              </a:rPr>
              <a:t>听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E679-E422-4C3A-A820-08D512253D4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膨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742840" y="22096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肥胖、妊娠晚期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量腹水、巨大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4ACC-C7B3-414D-9484-AE3D4E22B18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凹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49672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见于极度消瘦或严重脱水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重者呈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舟状腹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6096-B71E-4EC2-BABF-59623E8ACD1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式呼吸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36912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腹膜炎，腹肌和膈肌痉挛、强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胃穿孔、急性腹膜炎、腹水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616A-E3EB-4E90-8A61-6A7F6E48F02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静脉曲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腹壁静脉一般看不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检查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BCDC-DCAD-4CDD-901A-34841D406E5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上的静脉自下向上经腹         壁静脉和腋静脉          上腔静脉。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下的腹壁静脉自上而下经大隐静脉           下腔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334120" y="289548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5181480" y="297180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851280" y="27082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5029200" y="44956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2411280" y="472428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5DAB-4452-44BF-8F93-815B31C1C92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447336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门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下腔静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腔静脉阻塞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5D27-1D52-4EA1-A230-6F4C3687FFC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门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门脉高压形成侧支循环时，曲张的静脉以脐为中心向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四周伸展，血液的流向为脐静脉                   脐孔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扩张的腹部浅表静脉：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向上流入胸壁静脉、腋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 向下流入大隐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4500720" y="26370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103400" y="3860640"/>
            <a:ext cx="1941480" cy="23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19DB-D500-4E0E-9741-EC02EF475F2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腔静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0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曲张的静脉大都分布在腹壁两侧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脐水平线以下的静脉血液的流向不是向下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上流入胸壁静脉和腋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9018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7F82-0258-46D6-A535-DDDA2434C58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腔静脉阻塞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腹部的静脉血流方向不是向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下流入腹壁静脉和大隐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207000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923D-3E36-4EA5-8B63-12C85A91128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检查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评估者用右手示指和中指并拢紧压在一段无分支的静脉上，其中一只手指紧紧压住静脉并向外滑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，挤出静脉内血液；然后放松该手指，另一手指紧压不动，看静脉是否迅速充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再用同样的方法放松另一手指，根据血流的充盈情况可判断出血流方向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rcRect l="0" t="0" r="7538" b="0"/>
          <a:stretch/>
        </p:blipFill>
        <p:spPr>
          <a:xfrm>
            <a:off x="900000" y="4869000"/>
            <a:ext cx="1511280" cy="11919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D:\z\2006-12-22\照片-诊断 006 副本.jpg"/>
          <p:cNvPicPr/>
          <p:nvPr/>
        </p:nvPicPr>
        <p:blipFill>
          <a:blip r:embed="rId3"/>
          <a:stretch/>
        </p:blipFill>
        <p:spPr>
          <a:xfrm>
            <a:off x="3419640" y="4581360"/>
            <a:ext cx="1873080" cy="15732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4414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EA14-5D63-45B0-A29F-F9BC22D8EA0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部位于横膈与骨盆之间，前面及侧面为腹壁，后面为脊柱及腰肌，内含腹膜腔和腹腔脏器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腔脏器很多，互相交错重叠，正常脏器部分与肿块容易混淆，因此，仔细检查和辨认非常重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检查腹部仍用视诊、触诊、叩诊、听诊等基本检查法，但以触诊最为重要，需要反复实践才能掌握。并且还需借助实验室、影像学和内镜等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为了避免触诊引起胃肠蠕动增加，使肠鸣音发生变化，腹部检查的顺序为视、听、触、叩，但记录时为了统一格式仍按视、触、叩、听的顺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4C7D-511A-4956-9DE9-838A5FC3F36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蠕动波及肠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一般不易见到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极度消瘦者可见到胃肠蠕动波及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胃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56F5-0CAA-4465-9031-D1112A43D67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腹壁上可以看到肠蠕动波及肠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D14C-7B65-43CA-8861-92CC694BCC2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梗阻的上部蠕动增强，可出现蠕动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时上腹部可见到胃蠕动波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自左向右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60BC-4607-4FDC-9F76-F4B54A1A0E0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608200" y="304560"/>
            <a:ext cx="6307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1" action="ppaction://hlinksldjump"/>
              </a:rPr>
              <a:t>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一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壁紧张度、压痛、反跳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二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肿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三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肝脏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四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胆囊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五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六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七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Rectangle 22"/>
          <p:cNvSpPr/>
          <p:nvPr/>
        </p:nvSpPr>
        <p:spPr>
          <a:xfrm>
            <a:off x="44146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7662-0FBB-4141-98B9-09F3722ECD2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、压痛、反跳痛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肌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压痛、反跳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FA1E-C4D6-4239-9245-ACBEAC2CC62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肌紧张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内有炎症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可因反射性痉挛而使腹壁变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壁紧张度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壁紧张度减弱或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4C53-A655-4A78-A65B-F666322C4D5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腹壁紧张分两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局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弥漫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762F-BFED-43B5-962E-2D0879D81EC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局限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某一脏器的炎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急性阑尾炎           右下腹局限性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胆囊炎              右上腹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3635280" y="342900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3419640" y="450864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06E8-B937-4C16-9D67-51A3FB5800D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弥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急性弥漫性炎症所致：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弥漫性炎症所致：结腹出现揉面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F3A3-A5C1-494D-B998-ED84B9DB9A0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板状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8147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广泛性紧张硬如木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胃穿孔或其他原因引起的急性弥漫性腹膜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CCE4-A60E-4373-8070-E9399CF45C4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的体表标志与分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5640" y="19890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体表标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分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684360" y="285264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484360" y="263700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84360" y="393372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2728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627280" y="2708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A5FB-ADB4-436A-90BB-A9E7382607B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减弱或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多见于老年人，经产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消耗性疾病及大量放腹水后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A22C-5FC1-447F-8A62-1F8923D8B50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、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压痛：由浅入深按压，发生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反跳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③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壁压痛与腹腔脏器病变引起的压痛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二者鉴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④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腔内重要脏器病变所致的压痛位置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B5F3-C42B-4702-90B7-35C3F532F61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发现压痛后，手指在该处稍停片刻，然后将手迅速抬起，在这一瞬间患者感到腹痛加重，并有痛苦表情称之为反跳痛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炎症累及腹膜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0898-1267-4D43-B166-99289D2845B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二者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将患者有压痛处的腹壁轻轻抓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壁的压痛，疼痛更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腔脏器的压痛，疼痛不加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3F3D-F5BD-44CA-9B68-DD02357139B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腔内脏器病变所致的压痛位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⑴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急性胆囊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⑵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急性胰腺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⑶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消化性溃疡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⑷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急性阑尾炎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7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⑸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及子宫病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⑹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腹内脏器肿瘤早期、腹部肠管蛔虫病、胆管蛔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⑺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右肺下叶肺炎、右侧胸膜炎、心梗等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680C-F735-4421-A224-E02993FCF51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胆囊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645336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侧腹直肌外缘与肋弓下缘交界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明显压痛               胆囊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3780000" y="386064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AF7E-175E-4029-9838-BE91072720A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胰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6970680" cy="36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中腹部及偏左处有压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7AD9-FE02-4640-8A37-415BB70C6C4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消化性溃疡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682632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在剑突下或稍偏左、右处有压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28A3-7FEF-4FCE-90A4-B4AB23CA00E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急性阑尾炎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表现上腹部压痛及疼痛数小时后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限于右下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髂前上棘与脐的连线的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交界处常有压痛       麦氏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McBurn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3780000" y="48690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BDA6-C0E3-44D2-9835-AB7C3EA01C5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膀胱及子宫病变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52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3645-3323-4051-BCBB-EC310A88A8C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肋弓下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腹上角（胸骨下角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腹中线（腹白线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脐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髂前上棘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腹直肌外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3" action="ppaction://hlinksldjump"/>
              </a:rPr>
              <a:t>腹股沟韧带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4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5" action="ppaction://hlinksldjump"/>
              </a:rPr>
              <a:t>肋脊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WordArt 8"/>
          <p:cNvSpPr txBox="1"/>
          <p:nvPr/>
        </p:nvSpPr>
        <p:spPr>
          <a:xfrm rot="21346200">
            <a:off x="5181480" y="3429000"/>
            <a:ext cx="3200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体表标志示意图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EADE-779F-44E9-8114-000E8CC5A48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内脏器肿瘤早期、_x000b_    腹部肠管蛔虫病、胆管蛔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4040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虽有腹痛，但无腹部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B0CB-CDD0-4AC6-919F-181E50BA7A0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肺下叶肺炎、右侧胸膜炎、心梗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可引起腹部压痛（放射痛、牵涉痛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07A3-055A-451D-869D-47AA6B249E9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肿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时应注意肿快的位置、大小、形状、硬度、有无压痛与波动、能否移动、与周围器官和腹壁的关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炎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良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恶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F132-DF3F-460C-80F1-ACD17AC056F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炎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5800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肿块与邻近组织粘连、压痛明显、不易推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7CA0-DAB9-4314-B7F6-04F78232404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良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4920" y="2209680"/>
            <a:ext cx="84978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边界清楚、表面光滑、质地不坚、压痛不著、活动度较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505E-8476-40FD-9EF2-B2520469013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恶性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包块巨大，边界模糊，表面不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地坚硬，移动度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C543-E475-483C-BECA-957C88C7C6B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，右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剑突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⑴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⑵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肝触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0481-B62C-444A-B21B-06F678F0573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4305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钩指触诊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rcRect l="0" t="0" r="0" b="10696"/>
          <a:stretch/>
        </p:blipFill>
        <p:spPr>
          <a:xfrm>
            <a:off x="4859280" y="2852640"/>
            <a:ext cx="33130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4C47-7D16-4D03-9B3B-63A4ED4A4A3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03280" y="1412640"/>
            <a:ext cx="404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大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质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表面光滑度及边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肝颈静脉回流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肝区腹膜摩擦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7583-CF28-485F-9A49-77F884301C1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质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79640" y="1773000"/>
            <a:ext cx="6478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软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口唇）正常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韧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鼻尖）急性肝炎、脂肪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硬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前额）肝硬化、肝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70A5-5952-47AE-9B9D-E42DC9D93CF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弓下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软骨构成，其下缘为体表腹部的上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用于腹部分区及肝脾的测量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A3C5-C5FE-454A-AA83-DAB8F970206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大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肋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，剑突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B15B-C72D-41BA-9B36-BD3BC41F9B5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面光滑度及边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⑴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光滑、边缘规则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常肝、急性肝炎、肝淤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⑵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不光滑，呈较均匀的小结节状，边缘不整且较薄者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肝硬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⑶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呈粗大不均匀的结节状，边缘厚薄不一致： 肝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A1C2-412F-440F-B90C-9F514B23F4B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无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炎、急性肝淤血、肝脓肿时有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2B29-2C9D-44F3-BC7A-FEF3BDEA27F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颈静脉回流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手按压肿大的肝时，颈静脉充盈较前更明显，停止按压时，颈静脉充盈复原，即为肝颈静脉回流征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右心衰竭、心包积液或心包缩窄的一个重要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891B-E2FC-439B-AF0A-DEF4B2589B7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区腹膜摩擦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让患者用力做腹式呼吸，此时如触及断续而粗糙的震动，即为肝区腹膜摩擦感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肝周围炎时产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7629-B901-4085-B266-9BDDF235046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胆囊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胆囊不能触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9E49-F52D-4C71-BB67-A8A8837A461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左手掌放于患者的右前胸下部，左拇指置于右肋下缘与腹直肌交界处，并按压腹部，嘱患者缓慢深呼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如在吸气过程中，患者因疼痛而突然终止吸气者称为莫菲征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）阳性。为胆囊炎症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rcRect l="0" t="11885" r="8913" b="0"/>
          <a:stretch/>
        </p:blipFill>
        <p:spPr>
          <a:xfrm>
            <a:off x="4788000" y="3959280"/>
            <a:ext cx="30970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1558-47FE-496A-9AA8-64E91A1184C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炎：肿大、囊性感，右上腹肌紧张压痛，莫菲征阳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胰头癌压迫胆总管：胆囊肿大，进行性黄疸，胆囊大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但无压痛            称为胆总管渐进阻塞征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Courvoisier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总管结石：黄疸明显，胆囊常不肿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因慢性炎症， 胆囊纤维化而皱缩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结石和胆囊癌时：胆囊肿大，有实体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2124000" y="31417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F0CF-4616-4FC5-AA15-35ACB93C2E6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978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脾不能触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脾触诊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脾大的测量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脾大的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脾大及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1EEF-35CE-496E-8B2D-A33DB9B750C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通常脾触诊采用单手触诊法及双手触诊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明显肿大，位置较表浅时，用单手触诊稍用力即可触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轻度肿大，并且位置较深，则需要用双手触诊法进行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被评估者采取仰卧位，双腿稍屈曲，使腹壁松弛，评估者位于右侧，左手置于被评估者左季肋部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处的侧后方，将脾脏由后向前托起，右手平放腹部与右肋弓垂直，从髂前上棘连线水平开始随被评估者腹式呼吸自下而上进行触诊，直至触到脾下缘或右肋弓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1752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02:43:28Z</dcterms:created>
  <dc:creator>李晓慧</dc:creator>
  <dc:description/>
  <dc:language>en-US</dc:language>
  <cp:lastModifiedBy>赵欣</cp:lastModifiedBy>
  <dcterms:modified xsi:type="dcterms:W3CDTF">2015-12-16T09:06:23Z</dcterms:modified>
  <cp:revision>98</cp:revision>
  <dc:subject/>
  <dc:title>腹部检查</dc:title>
</cp:coreProperties>
</file>